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7A30-48BE-43AA-A1D6-E96F6B0E3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E1D-2D2A-40FC-98E0-A93AB05B5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59E-448A-4A9C-9AC0-1017FD94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FF2-0175-4BE9-83BE-D83B946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ECC67-FD68-4D88-9166-EC74014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3F723-15B9-4C9F-9492-1DB2768C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62324-51DA-4D54-A221-7CADD2F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21D87-DC4C-4921-9CFA-312C4B0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961DB-F2BB-46C4-995C-DB7C88D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2CFF8-5D25-446C-93D4-6E83385B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F3E42-68CF-485F-868D-B421AA8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46E40-7920-4438-AB53-3E09AE4D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A47F0-6618-4D99-8D08-C6A54F89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47723-AA37-45EE-A29C-078CC63D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E84-B2AB-4DE4-813A-584C39A7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41DA5-D973-4D85-A64C-99A89895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AD2FA-EBC2-432C-BB2E-59C72FB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88C38-FB10-4A55-BA26-D6E37249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D6386-AB86-4F3C-A7CF-1E8531CF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6DE24-CB59-45FE-9947-04901B2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0525D-C9CD-47B6-A3E1-8B4B385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2425D-FF76-4599-B861-ECCEAB66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42E49-E229-4436-B204-787E484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2C885-1912-44CF-91C6-DF5C33E7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25824-9EE6-4158-96D2-B7C3C069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715-7A0E-4FC3-891A-D647EF51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FC8A6-B143-4E3B-80CB-C6439D2F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2CBC-DCAE-458F-9766-D63FD38B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D44C-84B3-4907-88BE-D8D21F59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B1CB-4173-4616-9D4B-B137815C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FB5-85F5-4762-8494-D1F27262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9A70-3EE2-4F69-AF75-065579D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8CF-2ECF-40D0-8052-787A8B3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257D-BA93-44C4-AC9A-40F701B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879-345E-44D7-973C-0C1382E4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E292-B5C9-4C78-B2C0-1EF04B7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792D-A9A8-405D-8A79-91252A0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79C0-477A-42F9-A5E2-08566521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3DE3-75DD-4316-B21C-E89A6861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EDB-E2F9-49F8-9C38-C11D1049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BE3E-34F5-4D06-A779-C2B493C4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F706-E949-4E2C-8815-4F12B56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FD8B-780B-4B44-9301-E5B0D1D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062C-178D-4D14-90EF-88EB7EE5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06C0-C997-4942-A132-14ADFC49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E54-566A-4174-8663-044CB4C7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1B1E-DBFA-4434-9767-E433A1B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BC99-D18C-4AB5-8D4A-B775C37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AE25-4E64-46F3-8455-0BE94AF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88C9-0E67-4086-9A22-4A276A2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5E10-64EB-4108-95CA-2F769D8C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9B7A-543E-4253-BFCE-EA872616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9197-6046-47DF-89D3-1FB35F8D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B170-73E6-4D6C-998E-10CEA0CF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2D57-C6FC-4B5C-A2F0-6B4D43A3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8A814-68A5-411E-A353-5B14F7D9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666-4541-4582-B97B-B04BAA41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46F3-9558-4C12-8C07-BE8669BB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6522-8F74-4E0C-96D2-248B91B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9CB6-0195-4CE9-BC36-1C2F14A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E294-AE2F-4844-B485-EF7EE20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8698-E507-40F6-A1DC-859CD8F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5673-5606-4E68-80D8-00C9528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2E01-60D0-4CD1-9755-5A8B3CCD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375D-4BAF-45AB-A488-9DAC5A56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3B54-1238-42CD-B315-6D873D7A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BD94-887B-445E-A766-4234E19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368-B94C-4584-BC8F-AE1353DD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B55F-D2FD-4D1A-96C1-F089F807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FCED-735B-4D3A-BAD9-F6BDC72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E263E-34EE-48F3-A1A8-6AE8408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BCAD-0A79-4E43-B02C-3F2B830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0A12-B8A4-44B4-9A26-87E7093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A6D3-9CEB-491F-8FAA-3111D7F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230E-A988-4F65-9434-F7AA31A3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8EA6-9C63-41CE-AC04-11C7625C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53E5-8387-460D-9739-397E42DB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4890-9E85-489B-9B26-75F050C0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DE5-0085-41E6-8EBD-6887F1D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DD1D-B70D-4F1C-8F14-4E58C328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848A-7A95-4066-94E4-DBA80628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9C525-2A46-4472-B7EA-4545961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76001-67B2-46A7-8F18-DF1C23F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7D538-C06A-4648-A921-795BC08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0CC4-1C89-4402-ACBD-614145FB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2930-ECD0-4CC5-971E-EEF26675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9E76-6205-426F-B30A-376DEB6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DA00-F4FA-46B1-9BE2-B9B8222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AFCA-49C3-4682-AE0C-4F02A646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FE0-B208-4868-9FA1-7460749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2738-8D36-41FB-896A-ADCB296E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E476-FE9F-4E23-B3CA-4D99053B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8D16-B302-4735-86C5-BAD2E452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CDE1-7ABF-41EB-9809-D884E971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8457F-D929-4073-81B5-FAD38237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3D66-F734-4196-B673-CFD85173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87BB-B5F7-4EB5-AEBF-229C6167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043E-3CB4-4100-9E5A-1D0089F9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9659E-A132-481B-B70E-51D90CE4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D10CB-7A1E-49A9-AAF7-F9E3774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669-3EAD-417B-BBFB-882023F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95646-42D9-4C07-A664-F9CADAE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7A37-7F10-4D91-B94F-A377561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BDCC-75A1-47DC-A24B-9A315EFF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B091-B3AA-4B0C-AD35-8840152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759F-2B31-47FA-84DE-C8845CCF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401FA-0A8C-421F-832B-740C8806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B2554-2482-4A12-8360-18D8CE0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6DF16-19C9-4379-B93C-D199C13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9668F-652B-450D-8381-EA0F5B3A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55E6-6700-422A-BCD2-CA33307B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2AC-AB76-4919-B01A-D1BFB95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6079-2A10-4921-A78E-163D6219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01C0-57FB-4777-BAA2-104CD78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ED0ED-B172-49E7-9CFE-0798096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E7C9E-D220-43AE-AC7E-90AA8D0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905E-8DDC-427C-88B4-CAC36CC6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6ABE7-6668-4CA8-8AB3-038C2F29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1F38-BE03-4C37-B7E1-2261BACE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6F6FC-58F3-40AB-9793-3689AA47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48E7-B713-44E9-8C0A-441F3046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A446E-28CA-4BA3-B9E4-E244345F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6A9-7028-401A-83BB-A94928226D9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CD24-B841-457A-A7C0-8400C6F8561E}" type="slidenum">
              <a:rPr b="0" lang="en-US" sz="12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762120" y="1066680"/>
            <a:ext cx="4572000" cy="4572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BFF-2D76-4810-8B4B-6141C516EA1A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4D92-365B-40FD-A5EB-808CF2CE08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6F7-52C4-4F01-89B7-0B38B9DF157E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881-69C0-401C-A123-FA8C48E480A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3A8-7D84-47CE-9FE3-97301F27E061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F84-DB5A-41FD-A881-4BA3C90E1D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2A9-3AA0-4A1E-8E86-D356BE6C7A4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7A5F-440B-4E92-BD9C-95E490AD3F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12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7" name="Donut 15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5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0" name="Rectangle 16"/>
          <p:cNvSpPr/>
          <p:nvPr/>
        </p:nvSpPr>
        <p:spPr>
          <a:xfrm>
            <a:off x="1033560" y="0"/>
            <a:ext cx="8130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4643-3AC9-47DC-A93A-C7E607C9794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993-BDD0-49A2-B2E9-3AFF3EE33E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9F2-83AE-4320-A679-4141410A42F4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639-AA36-426E-9149-38C0BF1DA8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5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6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88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7CB3-424A-4B8D-8E84-81D421958B03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0C7-9B81-4982-BBD8-B09B97EBFC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90D-C049-4FEC-A0B5-49A4A5E13977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87CD-4B1E-4318-8D95-FB7C9FB52F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ts val="2999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ts val="2999"/>
              </a:lnSpc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ts val="2999"/>
              </a:lnSpc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6B4-60E3-4FF3-8AE0-B650E2ECD8C3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1F45-2A06-4C3C-92B5-343229C17C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43632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Spring 2011 European Tours Proposal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Ellen Latsk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our Developer-Euro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7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 Specialty Tra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Tour Development Goals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cus on significant experie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rve QST val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ce tours reasonab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learning opportun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fer local gu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ts val="2999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expe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ts val="2999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20:40:51Z</dcterms:created>
  <dc:creator> David Beskeen</dc:creator>
  <dc:description/>
  <dc:language>en-US</dc:language>
  <cp:lastModifiedBy>image</cp:lastModifiedBy>
  <dcterms:modified xsi:type="dcterms:W3CDTF">2012-05-11T15:55:45Z</dcterms:modified>
  <cp:revision>8</cp:revision>
  <dc:subject/>
  <dc:title>Spring 2011 European Tour Proposal</dc:title>
</cp:coreProperties>
</file>